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0D42-022E-4DAF-83A0-6A2874B18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8EEF-F311-44C4-8D54-8F25F5FDB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F8FF-CE92-4302-9E0B-0DCB1408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2EA-CB2A-4FCA-B1C4-D661FA11D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C877-876C-4FD0-A425-9C6B5D35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E26C-4570-4B91-B6E2-665365A57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E8CB-671C-4ADB-9841-71617835E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EA3-AA49-4A1B-B637-763FA76C1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654-C7CD-47C5-B780-2786B037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33A-4116-427D-BB2A-4884B34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0F3-0577-425B-8606-DAEFD85B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F53-2C43-484D-A949-2E825F23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2E8-27CC-4CA3-9AA1-E5FFA8E1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7A3-4BF3-4EA6-B7D1-3A85AB89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B7B-2F0A-4356-BFB4-22261E0B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8EF-9A4E-420F-8B60-2BD1786C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8A7-E75D-4880-967F-69A1128F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5CE-41B3-4501-A70A-A62AB47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C89-3291-4E1C-8016-70D89925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9F5-2401-4CAA-AD7F-23499382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2F2D-417E-4D0F-87FE-3F35B2494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Chemical Equilibrium &amp; Ocean Acid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how chemical equilibrium explains how increasing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atmosphere and increasing global temperatures can affect the acidity of the ocea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quilibriu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Matter mov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Dioxide in the Atmosphere &amp; Ocean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 Dioxide (CO2) will dissolve in ocean water to reach equilibrium with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60020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Ocean Acidific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water allows for more dissolved CO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76364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your groups, label the diagram with the causal principle responsible for the chemical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914400" y="658188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bc.co.uk/blogs/climatechange/_45552631_ocean_acidification02_466in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3" descr="oceanacidification.gif"/>
          <p:cNvPicPr/>
          <p:nvPr/>
        </p:nvPicPr>
        <p:blipFill>
          <a:blip r:embed="rId1"/>
          <a:stretch/>
        </p:blipFill>
        <p:spPr>
          <a:xfrm>
            <a:off x="914400" y="1763640"/>
            <a:ext cx="73818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hemical Energy &amp; Ocean Acidific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6:14:39Z</dcterms:created>
  <dc:creator>Julie Libarkin</dc:creator>
  <dc:description/>
  <dc:language>en-US</dc:language>
  <cp:lastModifiedBy>Nicole LaDue</cp:lastModifiedBy>
  <dcterms:modified xsi:type="dcterms:W3CDTF">2010-12-17T16:59:34Z</dcterms:modified>
  <cp:revision>324</cp:revision>
  <dc:subject/>
  <dc:title>PowerPoint Presentation</dc:title>
</cp:coreProperties>
</file>